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582784"/>
        <c:axId val="16024178"/>
      </c:barChart>
      <c:catAx>
        <c:axId val="685827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024178"/>
        <c:crosses val="autoZero"/>
        <c:auto val="1"/>
        <c:lblAlgn val="ctr"/>
        <c:lblOffset val="100"/>
        <c:noMultiLvlLbl val="0"/>
      </c:catAx>
      <c:valAx>
        <c:axId val="160241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5827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2704-821A-45D4-9F71-B95936519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811E-F5C9-44FC-9722-F1E59573E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389E-D17A-4B34-85B4-1059AEB35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DB18-7950-4493-AFD0-B62B3DAAC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4D8F-C75C-45FF-A869-ED195F886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DB55-587D-4BA2-95BC-CB9F0AAC6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63E5-614E-4763-94EC-CF35AF637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3897-FC71-44D6-9176-7C714028A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6B04-9636-4490-914D-CC4FD761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891A-710E-482A-A6BD-D41F12AB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820A-8B55-4A22-BE80-A2E5F3BC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05D0-29D6-46DC-B8BC-9D0D7A22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382215-12E1-4927-A951-698CE83FFB4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