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42054"/>
        <c:axId val="68214475"/>
      </c:barChart>
      <c:catAx>
        <c:axId val="94342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14475"/>
        <c:crosses val="autoZero"/>
        <c:auto val="1"/>
        <c:lblAlgn val="ctr"/>
        <c:lblOffset val="100"/>
        <c:noMultiLvlLbl val="0"/>
      </c:catAx>
      <c:valAx>
        <c:axId val="68214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2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4E2-27F8-454B-A8E2-782FAF2C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291-0EFA-4D36-94C7-EC51C21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D5F-48B6-4FC2-AAAB-D25612FA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971-E346-4659-A3FF-165CD0DE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C85-6BCD-4C92-9C6B-A8B04FE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123-AA71-4BB9-9E26-B2B81DB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481-0811-4BEC-8910-78A2D1DC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475-2D4A-4420-BBF7-602C67DD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CA1-8A91-4CE0-B62F-F60DC875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D4E-15EC-4716-B81C-8AF66C8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D7C-E807-4E86-9A47-F1A2473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A5B-1A5C-4FBA-BA07-920AB4B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A4727-6DF1-4844-BC57-6285DDE772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