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53428"/>
        <c:axId val="82488286"/>
      </c:barChart>
      <c:catAx>
        <c:axId val="74353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88286"/>
        <c:crosses val="autoZero"/>
        <c:auto val="1"/>
        <c:lblAlgn val="ctr"/>
        <c:lblOffset val="100"/>
        <c:noMultiLvlLbl val="0"/>
      </c:catAx>
      <c:valAx>
        <c:axId val="82488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53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588-E8F8-4F46-9A1B-CA42D0B7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FF2-D80D-40E7-B69A-4C6C1969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79D-225B-4DBB-99C4-EA7B9203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6E0-ABCB-4430-ACF5-3B3A392C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B0E-2FF5-46C9-9957-7F28EBFE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56F-9F90-43B0-87D3-BD06A56D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3AE-1876-4599-990D-5C8699F4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81F-608B-4CA6-87F4-1D244B86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2FD-63A0-4E93-A0BF-379615A1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DE8-D834-4A06-8B24-141A823C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960-C607-4324-B8D0-833E982E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4C7-C976-4177-AD21-7D96BCAC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A29CE-DBA7-4C9B-B58D-FB4DFA1F60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