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74077"/>
        <c:axId val="79507789"/>
      </c:barChart>
      <c:catAx>
        <c:axId val="68374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07789"/>
        <c:crosses val="autoZero"/>
        <c:auto val="1"/>
        <c:lblAlgn val="ctr"/>
        <c:lblOffset val="100"/>
        <c:noMultiLvlLbl val="0"/>
      </c:catAx>
      <c:valAx>
        <c:axId val="79507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74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7A3-EC42-4840-B7F8-7F4E91F1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57E-CD4D-46E9-AE26-3615E5A0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52E-0B9F-416B-939A-68938082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9EB-06E7-4551-B72D-A761A13C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9B6-D263-4C0D-A399-FCEEE274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43B-D187-46B8-9078-D20374C8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D9A-0B52-4385-B8FB-4A340B00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CF3-1CF1-4F8C-B0B8-CE024448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CAE0-ABA0-42F5-A70D-E86A399B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9DF-B68B-4B22-A509-B6BCB067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1D8-69DC-4F1E-BEC1-88BF3B84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AC8-A0C0-4043-BD7E-601297E5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4BB45-B20A-4FDB-B45C-078E6FCE57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