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79048"/>
        <c:axId val="14710327"/>
      </c:barChart>
      <c:catAx>
        <c:axId val="34379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10327"/>
        <c:crosses val="autoZero"/>
        <c:auto val="1"/>
        <c:lblAlgn val="ctr"/>
        <c:lblOffset val="100"/>
        <c:noMultiLvlLbl val="0"/>
      </c:catAx>
      <c:valAx>
        <c:axId val="14710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79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8D9-D626-4EA0-876E-3060811D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6F1-EB54-4D3F-9315-BFA81C24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B37-1D62-4193-9D1C-6345A3DC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1CF-D350-4FDB-A095-C5A9B1D4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5D2-0CFD-4412-9F94-8D781F7E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473-4782-408A-9796-69F0B119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992-E7A8-4F06-82CF-47F393D1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276-A6BD-434A-BF1A-1D68626B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0D8-26A1-47EE-9B4E-636FC600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5AA-A963-4DD6-80BB-173CC8B7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0ED-5FB0-453E-A13F-AE72A397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BCD-89A1-4AED-89D8-B05B5B67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BCC12-3616-4307-943D-D1A730123C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