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278176"/>
        <c:axId val="73298886"/>
      </c:barChart>
      <c:catAx>
        <c:axId val="712781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98886"/>
        <c:crosses val="autoZero"/>
        <c:auto val="1"/>
        <c:lblAlgn val="ctr"/>
        <c:lblOffset val="100"/>
        <c:noMultiLvlLbl val="0"/>
      </c:catAx>
      <c:valAx>
        <c:axId val="73298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781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55C6-8F1F-4AC0-BCD3-F8B46F22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FC59-17FA-4835-8348-EB7A2FBF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08B5-B13A-473B-92C2-2D12226B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89C4-F895-410D-A200-F0781806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4D1B-3396-469D-BFC3-989C2D97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4D5-9025-4304-9C6F-B1295815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46A0-2134-4939-BF92-B060D7BF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9C50-5267-4C6A-8E67-C10A56F9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CF86-DC72-4F65-83EE-C4971CAC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4C4C-EAF6-4123-A815-55B3A33E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A76B-AC32-4C80-87B4-4848667B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2504-D422-4C1B-A216-36272941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84A2C-E14C-4DF8-AD0A-7FB0411FA6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