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100"/>
        <c:axId val="81496257"/>
      </c:barChart>
      <c:catAx>
        <c:axId val="647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96257"/>
        <c:crosses val="autoZero"/>
        <c:auto val="1"/>
        <c:lblAlgn val="ctr"/>
        <c:lblOffset val="100"/>
        <c:noMultiLvlLbl val="0"/>
      </c:catAx>
      <c:valAx>
        <c:axId val="81496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E3C-0146-4710-BF81-C396B3C1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54E-6DCB-4010-A61B-7D5F0426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193-05CE-4709-939F-EB0ADB4F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0A3-4355-4FE3-8720-67ECC9C0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CAE-3172-4633-8ED8-FF6A3EF8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AD8-145A-4D11-8E6E-FB34243D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BC3-A0B7-47C0-B4BE-F48AF432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2D7-2C95-46C6-8C71-3E16D8D6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F8B-A35B-4CE2-A9FD-B32E5D8F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272-7B1A-48A9-A085-43DB8DE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0C3-DF29-489A-BD77-0CB816E4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4A8-07A8-4019-9EE1-FABCBBB4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7F40C-1842-41DE-9909-89878226D2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